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3B1-5E10-4027-A17E-870EF7D0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027-5FBF-4A8B-AEDF-01C9B92A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DBA-7242-46D6-BB73-121053B0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D29-24CC-4B31-9A82-F4EF0571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356-56F5-422E-962B-DC537D8E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C0A-BA06-4725-9E67-F071B7D9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31B-028E-4B5E-9206-40F15A77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292-9876-426C-8FB4-C407D091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649-F525-40E6-A937-64C02C01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368-3C75-4463-B157-70ED27B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1A1-E71D-4483-BD4C-C4C4DA8C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C80-99B5-4812-AA46-B1306BC2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4EB8-8EEB-45D4-BC97-D510DEF5C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休業日横_背景-01.jpg"/>
          <p:cNvPicPr/>
          <p:nvPr/>
        </p:nvPicPr>
        <p:blipFill>
          <a:blip r:embed="rId2"/>
          <a:stretch/>
        </p:blipFill>
        <p:spPr>
          <a:xfrm>
            <a:off x="4680" y="-3240"/>
            <a:ext cx="18365760" cy="103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32976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1"/>
          <p:cNvSpPr/>
          <p:nvPr/>
        </p:nvSpPr>
        <p:spPr>
          <a:xfrm>
            <a:off x="2615040" y="1668600"/>
            <a:ext cx="449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2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2340360" y="3127320"/>
            <a:ext cx="50504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4568760" y="773604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0" descr="休業日_タイトル.png"/>
          <p:cNvPicPr/>
          <p:nvPr/>
        </p:nvPicPr>
        <p:blipFill>
          <a:blip r:embed="rId1"/>
          <a:stretch/>
        </p:blipFill>
        <p:spPr>
          <a:xfrm>
            <a:off x="8326440" y="1308240"/>
            <a:ext cx="10285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52:18Z</dcterms:modified>
  <cp:revision>46</cp:revision>
  <dc:subject/>
  <dc:title>スライド 1</dc:title>
</cp:coreProperties>
</file>